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5FD-7BBA-4F3B-889C-BAF11E39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935-DB95-450D-B5C0-92EF5A24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9A5-55C9-462D-A3CF-1626A4014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99E-598F-4081-9953-E7ED1AF2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689D-259B-4145-8AB9-9D66AEF0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C03E-C256-4713-953D-B18D5D32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BFCE-CA8A-4B47-94C9-8BEE3BC6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3AF5-D5A1-46FC-BBD1-49778DA1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61AD-85B0-4613-9AC6-42DBC706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E7B4-5549-4F6E-A896-C9690C7F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3AD1-2D81-4A9F-A3E5-B3C05BB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786C-2758-45E0-BB83-3CA679C6F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4050-D20F-4DAF-A561-DD6B9EC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D0B4-26F3-4E51-B1A4-C5C09556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FE73-BC80-4551-94F9-1D91093C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9158-40D6-4E27-90BB-5F53977CA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36B9-5CD4-47F8-992D-E94C7FBD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71F-5408-427C-9FA2-944C5165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262-8AB5-4870-9552-3D8D4ECA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8AB-095B-4299-B0BF-EB8A191F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C5C-959A-4527-AAB7-1370528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0568-8981-4BC8-86F9-B7C8D00C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8BD-355B-4228-850D-53860AC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DE3-7A4D-48B8-BB34-2A4C48E0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6D33-9BBC-49E0-B6F0-93EB16D4D2C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EEDE-F931-4E3C-A6E6-3CFFB3CDD1F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elcome to our PB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843280" y="2057040"/>
            <a:ext cx="6300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2f1311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Bradley Hand ITC"/>
              </a:rPr>
              <a:t>Mrs. Wingerath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f1311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Bradley Hand ITC"/>
              </a:rPr>
              <a:t>Mrs. Reidy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2f1311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f1311"/>
                </a:solidFill>
                <a:latin typeface="Bradley Hand ITC"/>
              </a:rPr>
              <a:t>Mrs. Gordon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22370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Patien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f1311"/>
                </a:solidFill>
                <a:uFillTx/>
                <a:latin typeface="Arial"/>
              </a:rPr>
              <a:t>Patience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apable of calmly awaiting an outcome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il_fi" descr=""/>
          <p:cNvPicPr/>
          <p:nvPr/>
        </p:nvPicPr>
        <p:blipFill>
          <a:blip r:embed="rId2"/>
          <a:stretch/>
        </p:blipFill>
        <p:spPr>
          <a:xfrm>
            <a:off x="3521160" y="1143000"/>
            <a:ext cx="412884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7d47d"/>
                </a:solidFill>
                <a:uFillTx/>
                <a:latin typeface="Arial"/>
              </a:rPr>
              <a:t>Precisio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f1311"/>
                </a:solidFill>
                <a:uFillTx/>
                <a:latin typeface="Arial"/>
              </a:rPr>
              <a:t>Precision: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he state or quality of being consistent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il_fi" descr=""/>
          <p:cNvPicPr/>
          <p:nvPr/>
        </p:nvPicPr>
        <p:blipFill>
          <a:blip r:embed="rId2"/>
          <a:stretch/>
        </p:blipFill>
        <p:spPr>
          <a:xfrm>
            <a:off x="3581280" y="1587600"/>
            <a:ext cx="384660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7d47d"/>
                </a:solidFill>
                <a:latin typeface="Arial"/>
              </a:rPr>
              <a:t>Practic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7086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2f1311"/>
                </a:solidFill>
                <a:uFillTx/>
                <a:latin typeface="Arial"/>
              </a:rPr>
              <a:t>Practice:</a:t>
            </a: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To do or perform over and over so to polish a skill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1523880" y="3276720"/>
            <a:ext cx="45738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5:52:11Z</dcterms:created>
  <dc:creator>netadmin8</dc:creator>
  <dc:description/>
  <dc:language>en-US</dc:language>
  <cp:lastModifiedBy>netadmin8</cp:lastModifiedBy>
  <dcterms:modified xsi:type="dcterms:W3CDTF">2013-10-10T16:02:32Z</dcterms:modified>
  <cp:revision>2</cp:revision>
  <dc:subject/>
  <dc:title>Welcome to our PBL</dc:title>
</cp:coreProperties>
</file>